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4CC3-0D7B-4FE6-8D59-23E848BA9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on the white board, demonstrate alternate way to convert from decimal to binary: repeatedly divide by 2; the string of remainders gives you your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FDD2-59EB-41E9-8C55-23BCE298B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e trick a few times. Then pass out the cards and task the students with figuring out how the trick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9348-4109-488E-9138-D10F8DA99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8AC-86C9-4F23-B20C-EB57647E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93D-0182-4A52-B2C6-113CDE2E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F65-CA59-42F8-813A-2549A078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412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10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412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10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DD8-975A-49F7-B331-F87CD543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8AC-E4BB-4E7E-9DC3-67AD9608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699-E7C4-4C69-BB20-BE6FE3A2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7AC-7413-4E3D-87DB-6A726270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F50-468D-4A8E-86CE-45FD7BE8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668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365-EE6F-4EB8-ABE6-524F3DC6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719-D913-4438-8ACE-D1AFEFAA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25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11B-6749-40E2-9B9A-C8D89AD8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25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D70-7462-4A14-9871-31BCB84E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DB38-324C-46BE-B361-ABD9B7752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190512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inary Number System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damental building block for digital electronics and most compu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rcRect l="0" t="20487" r="70313" b="50407"/>
          <a:stretch/>
        </p:blipFill>
        <p:spPr>
          <a:xfrm>
            <a:off x="6019920" y="30492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how and Tel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ome items from the Karweit computer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 memory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ses in Number Syste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how numbers work in base-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igit in a number has a value which depends on its position in th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-most digit tells us how many One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right-most tells us how many Ten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right-most tells us how many Hundreds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from right to left, each digit is “worth” 10 times more than the previous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ses in Number Syste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, or Base-2, works in much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-most digit tells us how many One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right-most tells us how many Twos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right-most tells us how many Fours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right-most tells us how many Eights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from right to left, each digit is “worth” 2 times more than the previous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ase-10, the possible digit values range from 0 – 9; in Base-2, the only possible values are 0 and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t’s practice Counting in Binary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17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tent Placeholder 4"/>
          <p:cNvSpPr/>
          <p:nvPr/>
        </p:nvSpPr>
        <p:spPr>
          <a:xfrm>
            <a:off x="510552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few practice convers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Base-10:   10101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from right to lef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(0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+ (1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(0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(1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(0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+ (1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(0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(1x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Binary:  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2009 = 1024 + 512 + 256 + 128 + 64 + 16 + 8 + 1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, in Binary: 1111101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w, Time for a Joke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know that there are 10  kinds of people in the 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a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who understand binary, and those who don’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ahaha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iley Face 3"/>
          <p:cNvSpPr/>
          <p:nvPr/>
        </p:nvSpPr>
        <p:spPr>
          <a:xfrm>
            <a:off x="7848720" y="609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d Tricks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4688" t="43129" r="54689" b="37469"/>
          <a:stretch/>
        </p:blipFill>
        <p:spPr>
          <a:xfrm>
            <a:off x="533520" y="1066680"/>
            <a:ext cx="814536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45314" t="43531" r="13280" b="38142"/>
          <a:stretch/>
        </p:blipFill>
        <p:spPr>
          <a:xfrm>
            <a:off x="457200" y="3809880"/>
            <a:ext cx="81532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ctal and Hexadecim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1760" y="160020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numbers can be a bit cumbersome, because they have so many digits. It is common in computer science applications to also represent numbers in octal (base-8) and hexadecimal (base-1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2009, which is 11111011001 in binary. To convert to octal, group the digits in 3’s from right to left. To convert to hexadecimal, use groups of 4 dig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111011001                11111011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 rot="5400000">
            <a:off x="3157560" y="4535640"/>
            <a:ext cx="3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 rot="5400000">
            <a:off x="2432160" y="4535640"/>
            <a:ext cx="3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 rot="5400000">
            <a:off x="1682640" y="4535640"/>
            <a:ext cx="3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 rot="5400000">
            <a:off x="957240" y="4535640"/>
            <a:ext cx="3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685800" y="52578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     7          3          1 (oc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 rot="5400000">
            <a:off x="7906680" y="4468320"/>
            <a:ext cx="3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 rot="5400000">
            <a:off x="6922080" y="4474800"/>
            <a:ext cx="3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 rot="5400000">
            <a:off x="5922000" y="4474800"/>
            <a:ext cx="3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5562720" y="5486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            d             9  (h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9:11:18Z</dcterms:created>
  <dc:creator>jerome.clifford</dc:creator>
  <dc:description/>
  <dc:language>en-US</dc:language>
  <cp:lastModifiedBy>whitneyw</cp:lastModifiedBy>
  <dcterms:modified xsi:type="dcterms:W3CDTF">2009-07-10T18:36:20Z</dcterms:modified>
  <cp:revision>37</cp:revision>
  <dc:subject/>
  <dc:title>Slide 1</dc:title>
</cp:coreProperties>
</file>